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296-3AEF-40B8-B3B5-5546E91B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F39-E3B1-42BA-BB0C-431C57E0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C93-BED5-41C0-8F02-99CD206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BDC-F246-48D4-B656-ADF54BDE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0CD-D6C6-4196-9F84-F8286B4F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7AD-25FF-4AAD-BF93-EC3CFF1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9EE-BE1E-43F6-A990-A659A59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360-44B4-4527-B7D6-2D4A312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F60-E471-4604-9C34-5F8DBF6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F1E-BAA3-4DE8-9A77-4BBA6657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BB9-A126-41D6-92FA-5B72561E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A58-C0AB-4A18-B7A2-4BCA8A7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BD3F-FD8B-464F-9CF3-4C0A94AB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chele Coch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52000" cy="4730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95280" y="38088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7+5x3(2+1)=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00960" cy="1261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048120" y="2819520"/>
            <a:ext cx="5181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7+5x3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2+1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048120" y="281952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7+5x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33520" y="3124080"/>
            <a:ext cx="137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 the parts you are not working on write them down below the original probl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8"/>
          <p:cNvSpPr/>
          <p:nvPr/>
        </p:nvSpPr>
        <p:spPr>
          <a:xfrm rot="20543400">
            <a:off x="1955520" y="3489120"/>
            <a:ext cx="977760" cy="484200"/>
          </a:xfrm>
          <a:prstGeom prst="rightArrow">
            <a:avLst>
              <a:gd name="adj1" fmla="val 50000"/>
              <a:gd name="adj2" fmla="val 614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9"/>
          <p:cNvSpPr/>
          <p:nvPr/>
        </p:nvSpPr>
        <p:spPr>
          <a:xfrm rot="705600">
            <a:off x="1944360" y="4209840"/>
            <a:ext cx="977760" cy="484200"/>
          </a:xfrm>
          <a:prstGeom prst="rightArrow">
            <a:avLst>
              <a:gd name="adj1" fmla="val 50000"/>
              <a:gd name="adj2" fmla="val 614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411520" y="419112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(3)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867000" y="23623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ve problem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hesi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wn Arrow 13"/>
          <p:cNvSpPr/>
          <p:nvPr/>
        </p:nvSpPr>
        <p:spPr>
          <a:xfrm>
            <a:off x="5943600" y="24382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00417 0.21018 E">
                                      <p:cBhvr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left to right start multiplying or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666880"/>
            <a:ext cx="386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5x3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3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78520" y="42670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135520" y="2666880"/>
            <a:ext cx="113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421520" y="2666880"/>
            <a:ext cx="155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3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9652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2794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rcRect l="0" t="46716" r="-358" b="24298"/>
          <a:stretch/>
        </p:blipFill>
        <p:spPr>
          <a:xfrm>
            <a:off x="457200" y="380880"/>
            <a:ext cx="838188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1600200"/>
            <a:ext cx="7620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523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52280"/>
            <a:ext cx="762120" cy="6098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6576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rest of the problem dow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3565 L -0.00017 0.21991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2454 L -0.00399 0.23102 E">
                                      <p:cBhvr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multiplying or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135880" y="2666880"/>
            <a:ext cx="34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5x3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583080" y="4267080"/>
            <a:ext cx="160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45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135520" y="2666880"/>
            <a:ext cx="113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9652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12794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0" t="46716" r="-358" b="24298"/>
          <a:stretch/>
        </p:blipFill>
        <p:spPr>
          <a:xfrm>
            <a:off x="457200" y="380880"/>
            <a:ext cx="83818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95280" y="1600200"/>
            <a:ext cx="7620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523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52280"/>
            <a:ext cx="762120" cy="6098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6576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rest of the problem dow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2454 L -0.00399 0.23102 E">
                                      <p:cBhvr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7+4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rcRect l="0" t="70877" r="-1272" b="0"/>
          <a:stretch/>
        </p:blipFill>
        <p:spPr>
          <a:xfrm>
            <a:off x="380880" y="685800"/>
            <a:ext cx="8458200" cy="137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12360" y="2246400"/>
            <a:ext cx="52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addition and subtraction from left to 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583440" y="4572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0:28:33Z</dcterms:created>
  <dc:creator> </dc:creator>
  <dc:description/>
  <dc:language>en-US</dc:language>
  <cp:lastModifiedBy>Michele Cochran</cp:lastModifiedBy>
  <dcterms:modified xsi:type="dcterms:W3CDTF">2012-03-31T14:27:22Z</dcterms:modified>
  <cp:revision>7</cp:revision>
  <dc:subject/>
  <dc:title>Slide 1</dc:title>
</cp:coreProperties>
</file>